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6BE-21B7-4924-BFFC-EA1AFBB3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07A-E847-41F3-899E-3B8AC4AF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A69-30B5-4A2C-AD95-AA3B9786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9BA-19EE-4167-A3B6-8663A7A4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6148-6584-43F8-A71E-FAC2C543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8C47-0EC8-401D-8BEA-91994146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278E-9625-4160-8B3D-34E8A939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51B5-C276-4130-8CFF-3873AD29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5090-640A-4C6B-9407-B8DA1342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0B7A-FBCC-410E-B5E7-A583684C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D0BA-C5F6-4BC1-9C14-DF4C4C1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233-DC77-4E54-A765-3B94457B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07F3-23FC-4D2C-9F3D-F93E2C24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D448-AB4B-4979-A041-BCD07340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7DFE-5A95-43ED-B712-19470DF2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5EA5-0AF8-49FC-BC03-A1D7C238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B30E-84DF-43FD-92F5-4D953849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0F8-3799-4BCE-A709-6F6B4250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3E7-0C6B-485C-9677-FE91A0C9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A9A-F322-43B1-8944-7286178D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E7B-4F20-4EBD-9E29-3C5F700C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489-88D3-4770-B6B5-5FFBBCEE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8E5-64FE-4155-9BC8-A784D247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197-DC92-491F-BDD5-B5288BB7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35F6-2D0A-4CF8-861D-B27A343A53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5642-5450-4639-86CE-15A967636E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w does the Constitution ensure that no branch of government has too much power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: Lexus Townsen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ecks judicial have on the  executive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ranch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declare executive actions unconstitut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ecks judicial have on the legislative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ranch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declare acts on congress unconstitutional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all idea!!!!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can see each branch keeps each other in che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branch can check the power of the o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keep anyone branch from gaining too much powe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three branches of Government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74800" y="2395440"/>
            <a:ext cx="7619040" cy="3656520"/>
            <a:chOff x="874800" y="2395440"/>
            <a:chExt cx="7619040" cy="3656520"/>
          </a:xfrm>
        </p:grpSpPr>
        <p:cxnSp>
          <p:nvCxnSpPr>
            <p:cNvPr id="99" name="_s18445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651280" y="2889720"/>
              <a:ext cx="731880" cy="2667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2" name="_s18444"/>
            <p:cNvCxnSpPr>
              <a:stCxn id="103" idx="0"/>
              <a:endCxn id="101" idx="2"/>
            </p:cNvCxnSpPr>
            <p:nvPr/>
          </p:nvCxnSpPr>
          <p:spPr>
            <a:xfrm flipV="1">
              <a:off x="4684320" y="3857400"/>
              <a:ext cx="2880" cy="73188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4" name="_s18443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2984760" y="2889720"/>
              <a:ext cx="731880" cy="2667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01" name="_s18439"/>
            <p:cNvSpPr/>
            <p:nvPr/>
          </p:nvSpPr>
          <p:spPr>
            <a:xfrm>
              <a:off x="3541320" y="2395440"/>
              <a:ext cx="2285640" cy="1462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hree Branche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18440"/>
            <p:cNvSpPr/>
            <p:nvPr/>
          </p:nvSpPr>
          <p:spPr>
            <a:xfrm>
              <a:off x="874800" y="4589280"/>
              <a:ext cx="2285640" cy="1462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Executive Branch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18441"/>
            <p:cNvSpPr/>
            <p:nvPr/>
          </p:nvSpPr>
          <p:spPr>
            <a:xfrm>
              <a:off x="3541320" y="4589280"/>
              <a:ext cx="2285640" cy="1462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Legislative Branch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18442"/>
            <p:cNvSpPr/>
            <p:nvPr/>
          </p:nvSpPr>
          <p:spPr>
            <a:xfrm>
              <a:off x="6208200" y="4589280"/>
              <a:ext cx="2285640" cy="1462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Judicial Branch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gislative Bran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gr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ke la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hou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qual representation in the senate(2 per st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use of representatives (popul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ate(two votes per st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use of representatives(based on states popul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ecutive Bran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rries out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dicial bran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reme cou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 if laws made by congress are constitut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ecks Executive have on the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gislative branch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propose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veto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ell special sessions of con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otiates foreign trea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s appoin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ecks Executive have on the Judicial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ranch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oints federal jud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grant pardons to federal offen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ecks legislative have on the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ecutive branch!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override presidents v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irms executive appoin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tifies trea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declare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s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impeach and remove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ecks legislative have on the judicial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ranch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s lower federal cou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impeach and remove jud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propose amendments to overrule judicial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ves appointments of federal jud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3:02:59Z</dcterms:created>
  <dc:creator>DEDRA</dc:creator>
  <dc:description/>
  <dc:language>en-US</dc:language>
  <cp:lastModifiedBy>DEDRA</cp:lastModifiedBy>
  <dcterms:modified xsi:type="dcterms:W3CDTF">2008-04-26T17:49:41Z</dcterms:modified>
  <cp:revision>2</cp:revision>
  <dc:subject/>
  <dc:title>How does the Constitution ensure that no branch of government has too much power.</dc:title>
</cp:coreProperties>
</file>